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70B-E932-40D0-8481-D0A4FA71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5ED-62A6-483C-BF03-56FB124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03C-8C65-49A3-9BB6-8CACB8D5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9A1-08E9-4F5D-BAF2-418F1AF9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05E-EBF0-439A-8DA9-50EB262D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FBF-E522-4734-A3D2-3FFAA3C8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939-AA62-400E-88C7-825730DB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209-AB9B-464B-AA75-265C1C1C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6EF-B88E-4184-B716-1AB045B3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298-6A64-4F24-9391-42716EB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EFA-AC94-44F7-A36A-298D37F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4AE-C32C-420E-AF19-1310B22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7C1-34A6-42A4-B780-525CB2F96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cior.edu.ru/card/1610/ponyatie-o-sistemah-schisleniya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появилась система счис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915920"/>
            <a:ext cx="7344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емы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люди стали использовать сч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ни счит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ображали числа подсчитанных вещ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система счис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стема счисления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– это способ записи чисе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ождение систем счис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вние люди для записи чисел пользовались зарубками на дереве или камне. Количество этих зарубок и определяло величину числа. Но такой способ записи чисел затруднял работу с большими числами. Стремление преодолеть это неудобство положило начало появлению различных способов записи чисел, а соответственно и различных систем сч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ись чисел на дощеч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2809800" y="1600200"/>
            <a:ext cx="35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ы счисления в современном ми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известная система счисления и используемая нами каждый день – это десятичная система счисления. Мы привыкли к ней настолько, что уже не замечаем насколько она удобна. Цифры, привычные нам с детства, изобрели индейцы, но в Европу они попали благодаря арабам, поэтому их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абск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никновение десятичной системы счис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новение десятичной системы счисления связывают с количеством пальцев на двух руках: пальцы рук – это счетный прибор, который всегда был у человека «под рук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цы рук как счетный приб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365200" y="1600200"/>
            <a:ext cx="441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счисления появились очень да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ой и привычной нам системой счисления является десятич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ичная система счисления связана с количеством пальцев на обоих ру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 информации: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едеральный центр информационно-образователь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и ученики 10 класса (группа «Историков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дор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0:09:40Z</dcterms:created>
  <dc:creator>Joni_mnim</dc:creator>
  <dc:description/>
  <dc:language>en-US</dc:language>
  <cp:lastModifiedBy>Joni_mnim</cp:lastModifiedBy>
  <dcterms:modified xsi:type="dcterms:W3CDTF">2011-05-18T10:55:13Z</dcterms:modified>
  <cp:revision>7</cp:revision>
  <dc:subject/>
  <dc:title>Как появилась система счисления?</dc:title>
</cp:coreProperties>
</file>